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wmf" ContentType="image/x-wmf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A72A-B64E-48E8-8FCD-89A6C4BCF745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5E5-23DC-49C0-AB8E-168B621D67DC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A4BD-5112-47EB-B02F-743B8738CF46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A4C6-0D54-4C72-9453-7DF5EE9D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C623-119E-49A2-9B88-DF55CCAC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2306-E688-4283-AE5D-B59107AB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085B-2D53-4EA6-9068-678FB6CC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0FE6-EF61-42A4-90EE-0F99B0AF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0124-8EF8-4C35-BC23-1F3D0173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A7A5-19EB-4CB0-9D01-03DFE2B8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1BB1-D9BA-46A1-A542-B1C2408E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87C1-9ED0-40F7-9B31-A3637E93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9A65-6474-4F52-810B-F3A97D8B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1B7B-FF95-4784-8604-1B08F5D1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509D-14A8-48E9-B648-41A0A4EE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EBB6-AF65-4ABA-A6A5-413EEDF4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67D0-A472-475F-9CB5-5288E22C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0ABB-F652-4726-B181-1622AD13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09E0-B88E-42CE-84CA-A3D00B4C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0EF2-7398-4723-93AC-65D9D35C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48A5-3A62-44AF-93E1-222A3173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78B8-3F89-46C9-8C76-6A52EB9A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E9EF-A6CC-4D00-BD26-3D0E614D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B1E3-F968-4182-810B-F21A4BB8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C5FC-C403-4504-9F36-3099618B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4206-434F-4E85-B616-7CBF2392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8F82-85F8-4F74-B881-4FC47AAF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A777-8351-4E3D-AB74-59BD2F585F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E4CC-8A26-472D-9508-7AF4D633F5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792936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7d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9900"/>
                </a:solidFill>
                <a:latin typeface="Arial"/>
              </a:rPr>
              <a:t>Проект по теме:</a:t>
            </a: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000" spc="-1" strike="noStrike">
                <a:solidFill>
                  <a:srgbClr val="ff3300"/>
                </a:solidFill>
                <a:latin typeface="Arial"/>
              </a:rPr>
              <a:t>«Функция обратной пропорциональности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07640" y="3789000"/>
            <a:ext cx="69138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Выполн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учащийся  8 класса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МОУ СОШ № 13 с углублённым изучением отдель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г. Тамб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тудёнов Анато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Учитель: Кирина Е.В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560" y="457200"/>
            <a:ext cx="90010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e5"/>
                </a:solidFill>
                <a:latin typeface="Arial"/>
              </a:rPr>
              <a:t>Высоко летаешь- низко упадеш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4000680" y="2571480"/>
            <a:ext cx="0" cy="2857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214800" y="4572000"/>
            <a:ext cx="3429000" cy="46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"/>
          <p:cNvSpPr/>
          <p:nvPr/>
        </p:nvSpPr>
        <p:spPr>
          <a:xfrm rot="10800000">
            <a:off x="4142880" y="2714760"/>
            <a:ext cx="2000520" cy="171432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700360" y="257184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ожение в обществ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857920" y="47149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мнени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8" descr="flying_bird_109.jpg"/>
          <p:cNvPicPr/>
          <p:nvPr/>
        </p:nvPicPr>
        <p:blipFill>
          <a:blip r:embed="rId1"/>
          <a:stretch/>
        </p:blipFill>
        <p:spPr>
          <a:xfrm>
            <a:off x="428760" y="4805280"/>
            <a:ext cx="2428920" cy="15415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thumb-planecrash-40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143760" y="1857240"/>
            <a:ext cx="2257200" cy="15717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250px-Twis-05.jpg"/>
          <p:cNvPicPr/>
          <p:nvPr/>
        </p:nvPicPr>
        <p:blipFill>
          <a:blip r:embed="rId3"/>
          <a:stretch/>
        </p:blipFill>
        <p:spPr>
          <a:xfrm>
            <a:off x="7215120" y="4500720"/>
            <a:ext cx="1595520" cy="20872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0" descr="1261583953_0990_200x160.jpg"/>
          <p:cNvPicPr/>
          <p:nvPr/>
        </p:nvPicPr>
        <p:blipFill>
          <a:blip r:embed="rId4"/>
          <a:stretch/>
        </p:blipFill>
        <p:spPr>
          <a:xfrm>
            <a:off x="571680" y="1571760"/>
            <a:ext cx="1357200" cy="2143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e5"/>
                </a:solidFill>
                <a:latin typeface="Arial"/>
              </a:rPr>
              <a:t>Дальше от кузнеца – меньше копо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C:\Program Files\Microsoft Office\MEDIA\CAGCAT10\j0285360.wmf"/>
          <p:cNvPicPr/>
          <p:nvPr/>
        </p:nvPicPr>
        <p:blipFill>
          <a:blip r:embed="rId1"/>
          <a:stretch/>
        </p:blipFill>
        <p:spPr>
          <a:xfrm>
            <a:off x="428760" y="4143240"/>
            <a:ext cx="1474560" cy="1818000"/>
          </a:xfrm>
          <a:prstGeom prst="rect">
            <a:avLst/>
          </a:prstGeom>
          <a:ln w="0">
            <a:noFill/>
          </a:ln>
        </p:spPr>
      </p:pic>
      <p:sp>
        <p:nvSpPr>
          <p:cNvPr id="166" name="Line 6"/>
          <p:cNvSpPr/>
          <p:nvPr/>
        </p:nvSpPr>
        <p:spPr>
          <a:xfrm flipV="1">
            <a:off x="3571920" y="2142720"/>
            <a:ext cx="0" cy="2786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962440" y="4429080"/>
            <a:ext cx="3429000" cy="46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"/>
          <p:cNvSpPr/>
          <p:nvPr/>
        </p:nvSpPr>
        <p:spPr>
          <a:xfrm rot="10800000">
            <a:off x="3714480" y="2357280"/>
            <a:ext cx="2428920" cy="192888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500200" y="2143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929200" y="4500720"/>
            <a:ext cx="121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-во копоти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9" descr="nature.jpg"/>
          <p:cNvPicPr/>
          <p:nvPr/>
        </p:nvPicPr>
        <p:blipFill>
          <a:blip r:embed="rId2"/>
          <a:stretch/>
        </p:blipFill>
        <p:spPr>
          <a:xfrm>
            <a:off x="6643800" y="2000160"/>
            <a:ext cx="220644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e5"/>
                </a:solidFill>
                <a:latin typeface="Arial"/>
              </a:rPr>
              <a:t>Меньше знаешь- крепче спи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392040" y="47800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Documents and Settings\Администратор\Мои документы\Мои рисунки\1220094052_nat-s-kolokol-ekim.jpg"/>
          <p:cNvPicPr/>
          <p:nvPr/>
        </p:nvPicPr>
        <p:blipFill>
          <a:blip r:embed="rId2"/>
          <a:stretch/>
        </p:blipFill>
        <p:spPr>
          <a:xfrm>
            <a:off x="6572160" y="1214280"/>
            <a:ext cx="2078280" cy="1708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Documents and Settings\Администратор\Мои документы\Мои рисунки\2000.jpg"/>
          <p:cNvPicPr/>
          <p:nvPr/>
        </p:nvPicPr>
        <p:blipFill>
          <a:blip r:embed="rId3"/>
          <a:stretch/>
        </p:blipFill>
        <p:spPr>
          <a:xfrm>
            <a:off x="6643800" y="507204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176" name="Line 7"/>
          <p:cNvSpPr/>
          <p:nvPr/>
        </p:nvSpPr>
        <p:spPr>
          <a:xfrm>
            <a:off x="3429000" y="4071960"/>
            <a:ext cx="4143240" cy="6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V="1">
            <a:off x="4429080" y="1714320"/>
            <a:ext cx="0" cy="3143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2"/>
          <p:cNvSpPr/>
          <p:nvPr/>
        </p:nvSpPr>
        <p:spPr>
          <a:xfrm rot="10800000">
            <a:off x="4572000" y="2071440"/>
            <a:ext cx="2214720" cy="185724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3571920" y="1714680"/>
            <a:ext cx="10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пость сна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7429680" y="42148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-во знани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f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14240" y="1980720"/>
            <a:ext cx="751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или знания по теме функция обратной пропорцион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лись с практическим  применением функции в жизни и в народном творч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Российская энциклопедия. М., Мир книги, 2003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феев Г.В., Петерсон Л.Г.  Математика 6 – М.: Издательство «Ювента», 200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 ресурс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1September.ru,                                                http://ru.wikipedia.or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3635280" y="4149720"/>
            <a:ext cx="1573200" cy="1536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1573200" cy="1536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3"/>
          <a:stretch/>
        </p:blipFill>
        <p:spPr>
          <a:xfrm>
            <a:off x="6300720" y="4149720"/>
            <a:ext cx="1573200" cy="1536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"/>
          <p:cNvPicPr/>
          <p:nvPr/>
        </p:nvPicPr>
        <p:blipFill>
          <a:blip r:embed="rId4"/>
          <a:stretch/>
        </p:blipFill>
        <p:spPr>
          <a:xfrm>
            <a:off x="1619280" y="3429000"/>
            <a:ext cx="1573200" cy="1536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"/>
          <p:cNvPicPr/>
          <p:nvPr/>
        </p:nvPicPr>
        <p:blipFill>
          <a:blip r:embed="rId5"/>
          <a:stretch/>
        </p:blipFill>
        <p:spPr>
          <a:xfrm>
            <a:off x="3924360" y="981000"/>
            <a:ext cx="1573200" cy="1536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"/>
          <p:cNvPicPr/>
          <p:nvPr/>
        </p:nvPicPr>
        <p:blipFill>
          <a:blip r:embed="rId6"/>
          <a:stretch/>
        </p:blipFill>
        <p:spPr>
          <a:xfrm>
            <a:off x="1214280" y="1000080"/>
            <a:ext cx="1573200" cy="15368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7"/>
          <p:cNvSpPr/>
          <p:nvPr/>
        </p:nvSpPr>
        <p:spPr>
          <a:xfrm>
            <a:off x="2771640" y="3167640"/>
            <a:ext cx="37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8440" y="259920"/>
            <a:ext cx="5941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28800" y="2071800"/>
            <a:ext cx="676728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ить знания по теме функция обратной пропорцион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ся с практическим  применением функции в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0080" y="549360"/>
            <a:ext cx="72295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функция обратной пропорциональ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4200" y="1628640"/>
            <a:ext cx="828216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й пропорциональностью называют функцию, заданную формулой y =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k ≠ 0. Число k называют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коэффициентом обратной пропорциональности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4071960" y="2214720"/>
                <a:ext cx="2509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к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651640" y="3925800"/>
            <a:ext cx="2881080" cy="27511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График функции обратной пропорцион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6960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ом функции является гипер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k &gt; 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ветви гиперболы в I и III координатных четвертях, ес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k &lt; 0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ветви гиперболы расположены во II и IV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ных четвертях координатн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2606400" cy="220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448000" cy="229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214280"/>
            <a:ext cx="828684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графика зависит от модул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ок к нулю, то ветви гиперболы прижимаются к осям координат, если же      больше единицы ,то ветви  гиперболы все далее отодвигаются от ос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9"/>
          <p:cNvSpPr/>
          <p:nvPr/>
        </p:nvSpPr>
        <p:spPr>
          <a:xfrm rot="5400000">
            <a:off x="4071600" y="3286080"/>
            <a:ext cx="1214280" cy="1785960"/>
          </a:xfrm>
          <a:prstGeom prst="pie">
            <a:avLst/>
          </a:pr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2857680" y="4857840"/>
            <a:ext cx="3429000" cy="46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V="1">
            <a:off x="3643200" y="3357360"/>
            <a:ext cx="0" cy="2143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9"/>
          <p:cNvSpPr/>
          <p:nvPr/>
        </p:nvSpPr>
        <p:spPr>
          <a:xfrm rot="5400000">
            <a:off x="4178880" y="3321720"/>
            <a:ext cx="1143000" cy="1500120"/>
          </a:xfrm>
          <a:prstGeom prst="pie">
            <a:avLst/>
          </a:pr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 rot="2239200">
            <a:off x="3798360" y="4384080"/>
            <a:ext cx="64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Y=05/x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 rot="2590200">
            <a:off x="4064040" y="4104000"/>
            <a:ext cx="57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y=1/x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6072120" y="4500720"/>
            <a:ext cx="3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войства функции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6760" y="1484280"/>
            <a:ext cx="76359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) = (-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0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0: +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Есл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&gt; 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функц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бывает 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(y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х є (0: +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; есл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&lt; 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функция возрастает 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(y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х є (-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именьшее не существует,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ибольшее не суще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Функция непрерывна на промежут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0) и (0: +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33000" y="530064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(у) = (-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0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0: +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68706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рактическое применение функци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400" y="1571760"/>
            <a:ext cx="72673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"/>
          </a:bodyPr>
          <a:p>
            <a:pPr marL="1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движения и время в пу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/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з-н равномерного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м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cons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при увеличении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ч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м/ч)-будет уменьш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-р: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 =120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м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=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60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=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40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=2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м/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-10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км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–cons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а при увеличении времен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ч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 1,2,3…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:\Program Files\Microsoft Office\MEDIA\CAGCAT10\j0216858.wmf"/>
          <p:cNvPicPr/>
          <p:nvPr/>
        </p:nvPicPr>
        <p:blipFill>
          <a:blip r:embed="rId1"/>
          <a:stretch/>
        </p:blipFill>
        <p:spPr>
          <a:xfrm>
            <a:off x="214200" y="4214880"/>
            <a:ext cx="3000600" cy="16905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3" descr="график.png"/>
          <p:cNvPicPr/>
          <p:nvPr/>
        </p:nvPicPr>
        <p:blipFill>
          <a:blip r:embed="rId2"/>
          <a:stretch/>
        </p:blipFill>
        <p:spPr>
          <a:xfrm>
            <a:off x="5786280" y="3286080"/>
            <a:ext cx="3143520" cy="3071880"/>
          </a:xfrm>
          <a:prstGeom prst="rect">
            <a:avLst/>
          </a:prstGeom>
          <a:ln cap="sq" w="38160">
            <a:solidFill>
              <a:srgbClr val="a6a6a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28760" y="114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кон Ома: сила тока прямо пропорциональна напряжению и обратно пропорциональна сопротивлению цепи. Ес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а ток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жение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ротивление, то при постоянном напря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=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 flipV="1">
            <a:off x="1785960" y="3285720"/>
            <a:ext cx="0" cy="3000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85920" y="5857920"/>
            <a:ext cx="3429000" cy="46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2"/>
          <p:cNvSpPr/>
          <p:nvPr/>
        </p:nvSpPr>
        <p:spPr>
          <a:xfrm rot="10800000">
            <a:off x="1928880" y="3571560"/>
            <a:ext cx="2571840" cy="214308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1500120" y="3143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643280" y="585792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3" descr=""/>
          <p:cNvPicPr/>
          <p:nvPr/>
        </p:nvPicPr>
        <p:blipFill>
          <a:blip r:embed="rId1"/>
          <a:stretch/>
        </p:blipFill>
        <p:spPr>
          <a:xfrm>
            <a:off x="420840" y="371520"/>
            <a:ext cx="8242200" cy="152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6429240" y="1500120"/>
            <a:ext cx="1830600" cy="1149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Program Files\Microsoft Office\MEDIA\CAGCAT10\j0278882.wmf"/>
          <p:cNvPicPr/>
          <p:nvPr/>
        </p:nvPicPr>
        <p:blipFill>
          <a:blip r:embed="rId3"/>
          <a:stretch/>
        </p:blipFill>
        <p:spPr>
          <a:xfrm>
            <a:off x="571680" y="4429080"/>
            <a:ext cx="169056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Line 6"/>
          <p:cNvSpPr/>
          <p:nvPr/>
        </p:nvSpPr>
        <p:spPr>
          <a:xfrm flipV="1">
            <a:off x="3929040" y="1928880"/>
            <a:ext cx="0" cy="3000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3429000" y="4429080"/>
            <a:ext cx="3429000" cy="46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"/>
          <p:cNvSpPr/>
          <p:nvPr/>
        </p:nvSpPr>
        <p:spPr>
          <a:xfrm rot="10800000">
            <a:off x="4071600" y="2571480"/>
            <a:ext cx="2289240" cy="170172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6143760" y="457200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2786040" y="192888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1:03:18Z</dcterms:created>
  <dc:creator>user2</dc:creator>
  <dc:description/>
  <dc:language>en-US</dc:language>
  <cp:lastModifiedBy>XP GAME 2008</cp:lastModifiedBy>
  <dcterms:modified xsi:type="dcterms:W3CDTF">2010-01-28T15:30:23Z</dcterms:modified>
  <cp:revision>78</cp:revision>
  <dc:subject/>
  <dc:title>Проект по теме: «Функция обратной пропорциональности»</dc:title>
</cp:coreProperties>
</file>